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16E8-FB00-4F41-95DD-DFE08657C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4D9B-4300-4D5E-B5FB-A16A4497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30B0-9D2C-4BE3-8854-0CA19230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F6A5-EDB4-485F-928C-E037C8559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C3A-D568-4546-B913-67B7419A74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017-9770-476D-84AE-C914A9939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C6A-4B4C-46BD-8DB7-94B1F7589B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D85-EB48-4523-83CC-995FAA050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E84-BAE4-470B-A537-CEBD8F1369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655-F01B-4D94-ACF9-B8A70E0D7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A0A-8514-4B12-B24D-2C8324840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C532-7C29-44FE-B445-C588944D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3C6-5990-4652-8689-879D27DF8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852-2D42-4C02-8FAD-8173404742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0C0-5EB2-4BC4-A267-ABD9510B5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A89-3673-46A5-98DC-DDC2636AAF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F0D-1C60-4B24-A602-25A75C610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783A-B281-407E-B132-7397BE80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D7BA-8F54-481E-B192-7759F8D8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00A1-2924-432C-A932-F50FBE97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34D8-E824-42BD-B489-278BBFF1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A3B7-818A-4E18-9D78-A7EB8757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281D-6E59-4891-8F18-F41C81CD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0BF5-9219-4759-B229-A7821FC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5B6A42D-7FB4-4295-80E0-EA99A09C2BFB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0F2E69AC-26F0-472E-A1FA-51748451FC4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System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MU Server via DNA\PRO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Data Source Configuration via TPA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2185920"/>
            <a:ext cx="6191280" cy="2486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29400" y="1295280"/>
            <a:ext cx="32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MU Server via DNA\PRO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Captures Data via MU &amp; DNA\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Protoco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to many relationship  (MU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difficult to explain Architecture to customer (DNA\PRO via 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training on NA, MU and T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ifficult for customers to add DNA’s to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(Filters are setup on the DNA\PRO before sending RTSM Data to MU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Local PC NIC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Data Source Configuration via TPA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28840" y="2290680"/>
            <a:ext cx="6288120" cy="2276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629400" y="1295280"/>
            <a:ext cx="32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Local PC NIC (filters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erface Card (Fil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4314960" cy="1685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576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PA Data Capture from a NIC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Captures Data via the Local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ck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ily Understood by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can use there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ing ability of the NIC (PCR Ji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will only perform as well as the 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Rate capture 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(Filters are setup on the Local Client for the N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With The DNA\DNA PRO…..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\Pro feeds MU server the Data over the RTSM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 Server copies and forwards the RTSM data to the clients (TPA, SART, 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 Server maybe installed on the DNA PRO via Instrumen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Manager must be used to configure the second NIC port on the DNA PRO when MU is installed lo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Use Model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333680" y="1057320"/>
            <a:ext cx="331920" cy="8151840"/>
          </a:xfrm>
          <a:prstGeom prst="can">
            <a:avLst>
              <a:gd name="adj" fmla="val 1166"/>
            </a:avLst>
          </a:prstGeom>
          <a:blipFill rotWithShape="0">
            <a:blip r:embed="rId1">
              <a:alphaModFix amt="4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iple Pl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1219320"/>
            <a:ext cx="1763640" cy="3614760"/>
            <a:chOff x="1523880" y="1219320"/>
            <a:chExt cx="1763640" cy="361476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669680" y="1816200"/>
              <a:ext cx="1289160" cy="12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523880" y="1219320"/>
              <a:ext cx="1763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PA Client Softwar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Running on a 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6520" y="3144960"/>
              <a:ext cx="0" cy="168912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914400"/>
            <a:ext cx="3225600" cy="3960720"/>
            <a:chOff x="4572000" y="914400"/>
            <a:chExt cx="3225600" cy="39607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4572000" y="3279600"/>
              <a:ext cx="170316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229080" y="3236760"/>
              <a:ext cx="1381320" cy="6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flipH="1">
              <a:off x="6084360" y="3725640"/>
              <a:ext cx="17640" cy="114948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5729040" y="1717560"/>
              <a:ext cx="72252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4687920" y="1965240"/>
              <a:ext cx="72216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6818040" y="1989000"/>
              <a:ext cx="7225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H="1">
              <a:off x="6290640" y="2676600"/>
              <a:ext cx="887400" cy="58392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2360" y="2401920"/>
              <a:ext cx="7920" cy="85392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52960" y="2649600"/>
              <a:ext cx="888840" cy="66348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3360" y="914400"/>
              <a:ext cx="305424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ulti-User Enviro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PA Client Software Running on a 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NA platform is Data 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Cloud"/>
          <p:cNvSpPr/>
          <p:nvPr/>
        </p:nvSpPr>
        <p:spPr>
          <a:xfrm>
            <a:off x="5638680" y="2666880"/>
            <a:ext cx="914400" cy="612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895480"/>
            <a:ext cx="160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cc"/>
                </a:solidFill>
                <a:latin typeface="Arial"/>
              </a:rPr>
              <a:t>MU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U System Architectur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4257720" y="2514600"/>
            <a:ext cx="2743200" cy="181440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11920" y="121932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1920" y="207000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11920" y="28828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9320" y="36957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219320"/>
            <a:ext cx="1219320" cy="533160"/>
          </a:xfrm>
          <a:prstGeom prst="rect">
            <a:avLst/>
          </a:prstGeom>
          <a:gradFill rotWithShape="0">
            <a:gsLst>
              <a:gs pos="0">
                <a:srgbClr val="00004d"/>
              </a:gs>
              <a:gs pos="50000">
                <a:srgbClr val="000099"/>
              </a:gs>
              <a:gs pos="100000">
                <a:srgbClr val="00004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44956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05800" y="52959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1523880"/>
            <a:ext cx="60948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1752480"/>
            <a:ext cx="0" cy="129564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400800" y="1447920"/>
            <a:ext cx="1143000" cy="175248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00800" y="2247840"/>
            <a:ext cx="1219320" cy="99072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62640" y="3022200"/>
            <a:ext cx="1295640" cy="22860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3276720"/>
            <a:ext cx="1219320" cy="45720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276720"/>
            <a:ext cx="1270080" cy="129528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352680"/>
            <a:ext cx="1295280" cy="198144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14920" y="3200400"/>
            <a:ext cx="1600200" cy="380880"/>
            <a:chOff x="4714920" y="3200400"/>
            <a:chExt cx="1600200" cy="380880"/>
          </a:xfrm>
        </p:grpSpPr>
        <p:sp>
          <p:nvSpPr>
            <p:cNvPr id="125" name=""/>
            <p:cNvSpPr/>
            <p:nvPr/>
          </p:nvSpPr>
          <p:spPr>
            <a:xfrm>
              <a:off x="4714920" y="3200400"/>
              <a:ext cx="1600200" cy="380880"/>
            </a:xfrm>
            <a:prstGeom prst="rect">
              <a:avLst/>
            </a:prstGeom>
            <a:solidFill>
              <a:srgbClr val="99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67560" y="32446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hernet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16000" y="1406520"/>
            <a:ext cx="4273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  <a:ea typeface="SimSu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57600" y="1676520"/>
            <a:ext cx="1066680" cy="167616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1380960" cy="617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514600" y="3809520"/>
            <a:ext cx="838080" cy="1295640"/>
          </a:xfrm>
          <a:prstGeom prst="line">
            <a:avLst/>
          </a:prstGeom>
          <a:ln w="38160">
            <a:solidFill>
              <a:srgbClr val="99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1447920" y="4848120"/>
            <a:ext cx="1676160" cy="110808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257800"/>
            <a:ext cx="152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Network Under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609480" cy="0"/>
          </a:xfrm>
          <a:prstGeom prst="line">
            <a:avLst/>
          </a:prstGeom>
          <a:ln w="38160">
            <a:solidFill>
              <a:srgbClr val="99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8840" y="1600200"/>
            <a:ext cx="8359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33"/>
                </a:solidFill>
                <a:latin typeface="Agilent TT Cond"/>
                <a:ea typeface="SimSun"/>
              </a:rPr>
              <a:t>3P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U System Architectur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Cloud"/>
          <p:cNvSpPr/>
          <p:nvPr/>
        </p:nvSpPr>
        <p:spPr>
          <a:xfrm>
            <a:off x="4257720" y="2514600"/>
            <a:ext cx="2743200" cy="181440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11920" y="121932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11920" y="207000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N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11920" y="28828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99320" y="36957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SART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219320"/>
            <a:ext cx="1219320" cy="533160"/>
          </a:xfrm>
          <a:prstGeom prst="rect">
            <a:avLst/>
          </a:prstGeom>
          <a:gradFill rotWithShape="0">
            <a:gsLst>
              <a:gs pos="0">
                <a:srgbClr val="00004d"/>
              </a:gs>
              <a:gs pos="50000">
                <a:srgbClr val="000099"/>
              </a:gs>
              <a:gs pos="100000">
                <a:srgbClr val="00004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05800" y="44956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52959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1523880"/>
            <a:ext cx="60948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1752480"/>
            <a:ext cx="0" cy="129564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00800" y="1447920"/>
            <a:ext cx="1143000" cy="1752480"/>
          </a:xfrm>
          <a:prstGeom prst="line">
            <a:avLst/>
          </a:prstGeom>
          <a:ln w="316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400800" y="2247840"/>
            <a:ext cx="1219320" cy="99072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362640" y="3022200"/>
            <a:ext cx="1295640" cy="228600"/>
          </a:xfrm>
          <a:prstGeom prst="line">
            <a:avLst/>
          </a:prstGeom>
          <a:ln w="316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276720"/>
            <a:ext cx="1219320" cy="45720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3276720"/>
            <a:ext cx="1270080" cy="1295280"/>
          </a:xfrm>
          <a:prstGeom prst="line">
            <a:avLst/>
          </a:prstGeom>
          <a:ln w="316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3352680"/>
            <a:ext cx="1295280" cy="198144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14920" y="3200400"/>
            <a:ext cx="1600200" cy="380880"/>
            <a:chOff x="4714920" y="3200400"/>
            <a:chExt cx="1600200" cy="380880"/>
          </a:xfrm>
        </p:grpSpPr>
        <p:sp>
          <p:nvSpPr>
            <p:cNvPr id="153" name=""/>
            <p:cNvSpPr/>
            <p:nvPr/>
          </p:nvSpPr>
          <p:spPr>
            <a:xfrm>
              <a:off x="4714920" y="3200400"/>
              <a:ext cx="1600200" cy="380880"/>
            </a:xfrm>
            <a:prstGeom prst="rect">
              <a:avLst/>
            </a:prstGeom>
            <a:solidFill>
              <a:srgbClr val="99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67560" y="32446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hernet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16000" y="1406520"/>
            <a:ext cx="4273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  <a:ea typeface="SimSu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1676520"/>
            <a:ext cx="1066680" cy="167616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1380960" cy="617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V="1">
            <a:off x="2514600" y="3885840"/>
            <a:ext cx="762120" cy="1219320"/>
          </a:xfrm>
          <a:prstGeom prst="line">
            <a:avLst/>
          </a:prstGeom>
          <a:ln w="38160">
            <a:solidFill>
              <a:srgbClr val="99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loud"/>
          <p:cNvSpPr/>
          <p:nvPr/>
        </p:nvSpPr>
        <p:spPr>
          <a:xfrm>
            <a:off x="1447920" y="4848120"/>
            <a:ext cx="1676160" cy="110808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5257800"/>
            <a:ext cx="152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Network Under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609480" cy="0"/>
          </a:xfrm>
          <a:prstGeom prst="line">
            <a:avLst/>
          </a:prstGeom>
          <a:ln w="38160">
            <a:solidFill>
              <a:srgbClr val="99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8840" y="1600200"/>
            <a:ext cx="8359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33"/>
                </a:solidFill>
                <a:latin typeface="Agilent TT Cond"/>
                <a:ea typeface="SimSun"/>
              </a:rPr>
              <a:t>3P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381320" cy="61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 flipV="1">
            <a:off x="1981080" y="3504960"/>
            <a:ext cx="152640" cy="1447560"/>
          </a:xfrm>
          <a:prstGeom prst="line">
            <a:avLst/>
          </a:prstGeom>
          <a:ln w="38160">
            <a:solidFill>
              <a:srgbClr val="99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6000" y="1600200"/>
            <a:ext cx="243828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82880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96920" y="1752480"/>
            <a:ext cx="4273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gilent TT Cond"/>
                <a:ea typeface="SimSu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MU Server Control of DNA\PRO</a:t>
            </a:r>
            <a:br>
              <a:rPr sz="2400"/>
            </a:b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937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MU Server Control of DNA\PRO</a:t>
            </a:r>
            <a:br>
              <a:rPr sz="2400"/>
            </a:b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81240" y="598320"/>
            <a:ext cx="7024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Instrument Manager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Instrument Manager RTSM Setup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32240" y="838080"/>
            <a:ext cx="407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14:34Z</dcterms:created>
  <dc:creator>Michael Stevens</dc:creator>
  <dc:description/>
  <dc:language>en-US</dc:language>
  <cp:lastModifiedBy>Michael Stevens</cp:lastModifiedBy>
  <dcterms:modified xsi:type="dcterms:W3CDTF">2007-06-07T13:39:36Z</dcterms:modified>
  <cp:revision>21</cp:revision>
  <dc:subject/>
  <dc:title>Slide 1</dc:title>
</cp:coreProperties>
</file>